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276-4255-47AD-9E05-78E9E711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007-6524-4DE4-B4CC-42D4E7DD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2C1-38DC-400B-BA9B-B8A7F144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68A-971B-4844-94DF-EB6E1A63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6FA-9F3B-47C8-95D7-E047C53A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DCA7-90F6-4D91-A4C6-E3DD4761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9F1-F4D6-43B8-96E4-CD45B259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A2D-0DF0-44FF-A450-FEF0A0FB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793-8830-4C2A-AC09-7EA6A85D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C33-1F96-474B-A4BA-7AAC8922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B96-589A-4026-A40D-37E596F9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E07-61A6-47F1-B4CA-B942A54D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1852-B5AE-46EF-AA66-5823AE6F4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pic>
          <p:nvPicPr>
            <p:cNvPr id="42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14400"/>
              <a:ext cx="7400880" cy="57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09480"/>
              <a:ext cx="990360" cy="18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800520"/>
              <a:ext cx="480960" cy="25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457200" y="6094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TTI FORNITORE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52388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grafiche, Fornitori, Contratti, Promozio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pture-11-28-00001" descr=""/>
          <p:cNvPicPr/>
          <p:nvPr/>
        </p:nvPicPr>
        <p:blipFill>
          <a:blip r:embed="rId5"/>
          <a:stretch/>
        </p:blipFill>
        <p:spPr>
          <a:xfrm>
            <a:off x="1066680" y="2057400"/>
            <a:ext cx="716292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pic>
          <p:nvPicPr>
            <p:cNvPr id="122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14400"/>
              <a:ext cx="7400880" cy="57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09480"/>
              <a:ext cx="990360" cy="18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800520"/>
              <a:ext cx="480960" cy="25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8380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ntratti Fornitore:visualizz.d’insi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600200"/>
            <a:ext cx="3124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i erog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zio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ci contrattu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ani promozio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apture-11-28-00001" descr=""/>
          <p:cNvPicPr/>
          <p:nvPr/>
        </p:nvPicPr>
        <p:blipFill>
          <a:blip r:embed="rId5"/>
          <a:stretch/>
        </p:blipFill>
        <p:spPr>
          <a:xfrm>
            <a:off x="2514600" y="1600200"/>
            <a:ext cx="61722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pic>
          <p:nvPicPr>
            <p:cNvPr id="130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14400"/>
              <a:ext cx="7400880" cy="57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09480"/>
              <a:ext cx="990360" cy="18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800520"/>
              <a:ext cx="480960" cy="25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0" y="83808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tti fornitore:inserimento test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Capture-11-28-00003" descr=""/>
          <p:cNvPicPr/>
          <p:nvPr/>
        </p:nvPicPr>
        <p:blipFill>
          <a:blip r:embed="rId5"/>
          <a:stretch/>
        </p:blipFill>
        <p:spPr>
          <a:xfrm>
            <a:off x="228600" y="1523880"/>
            <a:ext cx="8458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pic>
          <p:nvPicPr>
            <p:cNvPr id="137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14400"/>
              <a:ext cx="7400880" cy="57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09480"/>
              <a:ext cx="990360" cy="18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800520"/>
              <a:ext cx="480960" cy="25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0" y="83808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atti fornitore:inserimento esteso delle voci contrattuali (tipologie di erogazion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apture-11-28-00004" descr=""/>
          <p:cNvPicPr/>
          <p:nvPr/>
        </p:nvPicPr>
        <p:blipFill>
          <a:blip r:embed="rId5"/>
          <a:stretch/>
        </p:blipFill>
        <p:spPr>
          <a:xfrm>
            <a:off x="76320" y="1752480"/>
            <a:ext cx="8458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pic>
          <p:nvPicPr>
            <p:cNvPr id="144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14400"/>
              <a:ext cx="7400880" cy="57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09480"/>
              <a:ext cx="990360" cy="18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800520"/>
              <a:ext cx="480960" cy="25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228600" y="8380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serimento delle condizioni di scontistica incondizionate per Vo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Capture-11-28-00005" descr=""/>
          <p:cNvPicPr/>
          <p:nvPr/>
        </p:nvPicPr>
        <p:blipFill>
          <a:blip r:embed="rId5"/>
          <a:stretch/>
        </p:blipFill>
        <p:spPr>
          <a:xfrm>
            <a:off x="685800" y="1714680"/>
            <a:ext cx="7705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pic>
          <p:nvPicPr>
            <p:cNvPr id="151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14400"/>
              <a:ext cx="7400880" cy="57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09480"/>
              <a:ext cx="990360" cy="18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800520"/>
              <a:ext cx="480960" cy="25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533520" y="83808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serimento delle condizioni di scontistica condizionate per Vo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Capture-11-28-00006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7705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pic>
          <p:nvPicPr>
            <p:cNvPr id="158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14400"/>
              <a:ext cx="7400880" cy="57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09480"/>
              <a:ext cx="990360" cy="18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800520"/>
              <a:ext cx="480960" cy="25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533520" y="83808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serimento dei dettagli per merceologico (includi/esclud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Capture-11-28-00007" descr=""/>
          <p:cNvPicPr/>
          <p:nvPr/>
        </p:nvPicPr>
        <p:blipFill>
          <a:blip r:embed="rId5"/>
          <a:stretch/>
        </p:blipFill>
        <p:spPr>
          <a:xfrm>
            <a:off x="685800" y="1790640"/>
            <a:ext cx="76960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pic>
          <p:nvPicPr>
            <p:cNvPr id="165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14400"/>
              <a:ext cx="7400880" cy="57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09480"/>
              <a:ext cx="990360" cy="18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800520"/>
              <a:ext cx="480960" cy="25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533520" y="83808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taglio scadenze di liquid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Capture-11-28-00007" descr=""/>
          <p:cNvPicPr/>
          <p:nvPr/>
        </p:nvPicPr>
        <p:blipFill>
          <a:blip r:embed="rId5"/>
          <a:stretch/>
        </p:blipFill>
        <p:spPr>
          <a:xfrm>
            <a:off x="304920" y="1523880"/>
            <a:ext cx="81532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pic>
          <p:nvPicPr>
            <p:cNvPr id="172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14400"/>
              <a:ext cx="7400880" cy="57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09480"/>
              <a:ext cx="990360" cy="18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800520"/>
              <a:ext cx="480960" cy="25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"/>
          <p:cNvSpPr/>
          <p:nvPr/>
        </p:nvSpPr>
        <p:spPr>
          <a:xfrm>
            <a:off x="533520" y="83808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ano promozionale (elenc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Capture-11-28-00009" descr=""/>
          <p:cNvPicPr/>
          <p:nvPr/>
        </p:nvPicPr>
        <p:blipFill>
          <a:blip r:embed="rId5"/>
          <a:stretch/>
        </p:blipFill>
        <p:spPr>
          <a:xfrm>
            <a:off x="152280" y="144792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pic>
          <p:nvPicPr>
            <p:cNvPr id="179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14400"/>
              <a:ext cx="7400880" cy="57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09480"/>
              <a:ext cx="990360" cy="18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800520"/>
              <a:ext cx="480960" cy="25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0" y="6858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ano promozionale (dettaglio testate e righ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Capture-11-28-00010" descr=""/>
          <p:cNvPicPr/>
          <p:nvPr/>
        </p:nvPicPr>
        <p:blipFill>
          <a:blip r:embed="rId5"/>
          <a:stretch/>
        </p:blipFill>
        <p:spPr>
          <a:xfrm>
            <a:off x="152280" y="1371600"/>
            <a:ext cx="8458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pic>
          <p:nvPicPr>
            <p:cNvPr id="50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14400"/>
              <a:ext cx="7400880" cy="57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09480"/>
              <a:ext cx="990360" cy="18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800520"/>
              <a:ext cx="480960" cy="25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NU DI SIS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523880"/>
            <a:ext cx="3657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nagraf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ni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tra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Menu%20sistema" descr=""/>
          <p:cNvPicPr/>
          <p:nvPr/>
        </p:nvPicPr>
        <p:blipFill>
          <a:blip r:embed="rId5"/>
          <a:stretch/>
        </p:blipFill>
        <p:spPr>
          <a:xfrm>
            <a:off x="2057400" y="2057400"/>
            <a:ext cx="6553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pic>
          <p:nvPicPr>
            <p:cNvPr id="58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14400"/>
              <a:ext cx="7400880" cy="57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09480"/>
              <a:ext cx="990360" cy="18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800520"/>
              <a:ext cx="480960" cy="25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NU ANAGRAFI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3429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t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zi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s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ic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ssortime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ist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tratti forni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Menu%20principale" descr=""/>
          <p:cNvPicPr/>
          <p:nvPr/>
        </p:nvPicPr>
        <p:blipFill>
          <a:blip r:embed="rId5"/>
          <a:stretch/>
        </p:blipFill>
        <p:spPr>
          <a:xfrm>
            <a:off x="3505320" y="1981080"/>
            <a:ext cx="51051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66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40680"/>
              <a:ext cx="7400880" cy="591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26760"/>
              <a:ext cx="990360" cy="19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909960"/>
              <a:ext cx="480960" cy="259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Gestione Ute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67652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up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167652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Gruppi" descr=""/>
          <p:cNvPicPr/>
          <p:nvPr/>
        </p:nvPicPr>
        <p:blipFill>
          <a:blip r:embed="rId5"/>
          <a:stretch/>
        </p:blipFill>
        <p:spPr>
          <a:xfrm>
            <a:off x="0" y="2743200"/>
            <a:ext cx="4267080" cy="3854520"/>
          </a:xfrm>
          <a:prstGeom prst="rect">
            <a:avLst/>
          </a:prstGeom>
          <a:ln w="0">
            <a:noFill/>
          </a:ln>
        </p:spPr>
      </p:pic>
      <p:pic>
        <p:nvPicPr>
          <p:cNvPr id="74" name="Utenti" descr=""/>
          <p:cNvPicPr/>
          <p:nvPr/>
        </p:nvPicPr>
        <p:blipFill>
          <a:blip r:embed="rId6"/>
          <a:stretch/>
        </p:blipFill>
        <p:spPr>
          <a:xfrm>
            <a:off x="3962520" y="2541600"/>
            <a:ext cx="48052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76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40680"/>
              <a:ext cx="7400880" cy="591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26760"/>
              <a:ext cx="990360" cy="19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909960"/>
              <a:ext cx="480960" cy="259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zi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1676520"/>
            <a:ext cx="312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ultiaziendal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verse se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zienda%20-%20Ubicazione" descr=""/>
          <p:cNvPicPr/>
          <p:nvPr/>
        </p:nvPicPr>
        <p:blipFill>
          <a:blip r:embed="rId5"/>
          <a:stretch/>
        </p:blipFill>
        <p:spPr>
          <a:xfrm>
            <a:off x="152280" y="2590920"/>
            <a:ext cx="3881520" cy="4114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038480" y="167652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gamenti contab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ogrup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zienda%20-%20Dati%20Gestionali" descr=""/>
          <p:cNvPicPr/>
          <p:nvPr/>
        </p:nvPicPr>
        <p:blipFill>
          <a:blip r:embed="rId6"/>
          <a:stretch/>
        </p:blipFill>
        <p:spPr>
          <a:xfrm>
            <a:off x="3429000" y="2819520"/>
            <a:ext cx="5334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86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40680"/>
              <a:ext cx="7400880" cy="591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26760"/>
              <a:ext cx="990360" cy="19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909960"/>
              <a:ext cx="480960" cy="259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2057400" y="685800"/>
            <a:ext cx="7086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Magazzini / Negoz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1219320"/>
            <a:ext cx="312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ultimagazz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rari/Parame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gazzini%20-%20Dati%20informativi" descr=""/>
          <p:cNvPicPr/>
          <p:nvPr/>
        </p:nvPicPr>
        <p:blipFill>
          <a:blip r:embed="rId5"/>
          <a:stretch/>
        </p:blipFill>
        <p:spPr>
          <a:xfrm>
            <a:off x="228600" y="2209680"/>
            <a:ext cx="3809880" cy="3265560"/>
          </a:xfrm>
          <a:prstGeom prst="rect">
            <a:avLst/>
          </a:prstGeom>
          <a:ln w="0">
            <a:noFill/>
          </a:ln>
        </p:spPr>
      </p:pic>
      <p:pic>
        <p:nvPicPr>
          <p:cNvPr id="93" name="Magazzini%20-%20Dati%20radiofrequenza" descr=""/>
          <p:cNvPicPr/>
          <p:nvPr/>
        </p:nvPicPr>
        <p:blipFill>
          <a:blip r:embed="rId6"/>
          <a:stretch/>
        </p:blipFill>
        <p:spPr>
          <a:xfrm>
            <a:off x="3429000" y="1676520"/>
            <a:ext cx="5334120" cy="4038480"/>
          </a:xfrm>
          <a:prstGeom prst="rect">
            <a:avLst/>
          </a:prstGeom>
          <a:ln w="0">
            <a:noFill/>
          </a:ln>
        </p:spPr>
      </p:pic>
      <p:pic>
        <p:nvPicPr>
          <p:cNvPr id="94" name="Magazzini%20-%20Dati%20operativi" descr=""/>
          <p:cNvPicPr/>
          <p:nvPr/>
        </p:nvPicPr>
        <p:blipFill>
          <a:blip r:embed="rId7"/>
          <a:stretch/>
        </p:blipFill>
        <p:spPr>
          <a:xfrm>
            <a:off x="1981080" y="35053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96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40680"/>
              <a:ext cx="7400880" cy="591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26760"/>
              <a:ext cx="990360" cy="19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909960"/>
              <a:ext cx="480960" cy="259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2971800" y="762120"/>
            <a:ext cx="6477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Persona Giurid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914400"/>
            <a:ext cx="312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 Giuri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nit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Fornitori%20-%20Dati%20generali" descr=""/>
          <p:cNvPicPr/>
          <p:nvPr/>
        </p:nvPicPr>
        <p:blipFill>
          <a:blip r:embed="rId5"/>
          <a:stretch/>
        </p:blipFill>
        <p:spPr>
          <a:xfrm>
            <a:off x="152280" y="2870280"/>
            <a:ext cx="4572000" cy="3819600"/>
          </a:xfrm>
          <a:prstGeom prst="rect">
            <a:avLst/>
          </a:prstGeom>
          <a:ln w="0">
            <a:noFill/>
          </a:ln>
        </p:spPr>
      </p:pic>
      <p:pic>
        <p:nvPicPr>
          <p:cNvPr id="103" name="Fornitori%20-%20Dati%20commerciali" descr=""/>
          <p:cNvPicPr/>
          <p:nvPr/>
        </p:nvPicPr>
        <p:blipFill>
          <a:blip r:embed="rId6"/>
          <a:stretch/>
        </p:blipFill>
        <p:spPr>
          <a:xfrm>
            <a:off x="3200400" y="1600200"/>
            <a:ext cx="54864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05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40680"/>
              <a:ext cx="7400880" cy="591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26760"/>
              <a:ext cx="990360" cy="19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909960"/>
              <a:ext cx="480960" cy="259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2971800" y="762120"/>
            <a:ext cx="6477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nagrafica forni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914400"/>
            <a:ext cx="312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ni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sona Giuri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mpi conseg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fattu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ornitori%20-%20Dati%20generali" descr=""/>
          <p:cNvPicPr/>
          <p:nvPr/>
        </p:nvPicPr>
        <p:blipFill>
          <a:blip r:embed="rId5"/>
          <a:stretch/>
        </p:blipFill>
        <p:spPr>
          <a:xfrm>
            <a:off x="152280" y="2870280"/>
            <a:ext cx="4572000" cy="3819600"/>
          </a:xfrm>
          <a:prstGeom prst="rect">
            <a:avLst/>
          </a:prstGeom>
          <a:ln w="0">
            <a:noFill/>
          </a:ln>
        </p:spPr>
      </p:pic>
      <p:pic>
        <p:nvPicPr>
          <p:cNvPr id="112" name="Fornitori%20-%20Dati%20commerciali" descr=""/>
          <p:cNvPicPr/>
          <p:nvPr/>
        </p:nvPicPr>
        <p:blipFill>
          <a:blip r:embed="rId6"/>
          <a:stretch/>
        </p:blipFill>
        <p:spPr>
          <a:xfrm>
            <a:off x="3200400" y="1523880"/>
            <a:ext cx="563868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14" name="simbolo2" descr=""/>
            <p:cNvPicPr/>
            <p:nvPr/>
          </p:nvPicPr>
          <p:blipFill>
            <a:blip r:embed="rId1"/>
            <a:stretch/>
          </p:blipFill>
          <p:spPr>
            <a:xfrm>
              <a:off x="0" y="940680"/>
              <a:ext cx="7400880" cy="591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logo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simbolo" descr=""/>
            <p:cNvPicPr/>
            <p:nvPr/>
          </p:nvPicPr>
          <p:blipFill>
            <a:blip r:embed="rId3"/>
            <a:stretch/>
          </p:blipFill>
          <p:spPr>
            <a:xfrm>
              <a:off x="7848720" y="626760"/>
              <a:ext cx="990360" cy="19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synwww" descr=""/>
            <p:cNvPicPr/>
            <p:nvPr/>
          </p:nvPicPr>
          <p:blipFill>
            <a:blip r:embed="rId4"/>
            <a:stretch/>
          </p:blipFill>
          <p:spPr>
            <a:xfrm>
              <a:off x="8663040" y="3909960"/>
              <a:ext cx="480960" cy="259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533520" y="83808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8000"/>
                </a:solidFill>
                <a:latin typeface="Times New Roman"/>
              </a:rPr>
              <a:t>Linee Assortimentali Fornito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600200"/>
            <a:ext cx="7315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inee di prodotto fornitore (secondo le ‘logiche di segmentazione utilizzate dal fornit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inee di li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inee%20Assortimentali%20Fornitore" descr=""/>
          <p:cNvPicPr/>
          <p:nvPr/>
        </p:nvPicPr>
        <p:blipFill>
          <a:blip r:embed="rId5"/>
          <a:stretch/>
        </p:blipFill>
        <p:spPr>
          <a:xfrm>
            <a:off x="2971800" y="2514600"/>
            <a:ext cx="56386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9:26:07Z</dcterms:created>
  <dc:creator>Synergic02</dc:creator>
  <dc:description/>
  <dc:language>en-US</dc:language>
  <cp:lastModifiedBy> </cp:lastModifiedBy>
  <dcterms:modified xsi:type="dcterms:W3CDTF">2003-12-02T14:50:48Z</dcterms:modified>
  <cp:revision>20</cp:revision>
  <dc:subject/>
  <dc:title>Listino fornitore</dc:title>
</cp:coreProperties>
</file>